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7D70-F426-4E12-94BA-08740529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DA3E-40C4-4E89-B516-069DA5F5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278E-1B5C-4A39-A4DD-780E2E592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5315-7E3B-41A6-AA15-0A029FB4A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C02C-6B7F-4CCC-9F5D-40911054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861D-E5F2-4B41-A0B2-D3C96388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AC9C-745B-40DC-8317-03411085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9224-7B59-489A-B782-122F2B2E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4026-6738-4C53-ADEA-BE2BA398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DBD3-99E4-4420-9D04-30C25FB9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6688-B575-453C-B382-99C4E071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5DBE-535D-4BF3-ADF5-B9D69F32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E0DA-9CF3-4FF4-9B8C-521C39D6E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hapter 11 Review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GENETICS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2895480"/>
            <a:ext cx="2149200" cy="2011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429000" y="4114800"/>
            <a:ext cx="1565280" cy="2193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486400" y="2743200"/>
            <a:ext cx="32511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both alleles in the pair are the SAME the organism is _______________   or    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7280" y="5715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9:3:3: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7960" y="1447920"/>
            <a:ext cx="668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OMOZYGOUS                P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9880" y="3581280"/>
            <a:ext cx="8731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phenotype ratio is a c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 there has been a dihybrid cr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tween 2 heterozygous parents?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30456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 = red flowers         r = white flow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87840" y="1447920"/>
            <a:ext cx="9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76520" y="13716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12600" y="266688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in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600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 Rr organism would have ____________ flowers if this trait was COMPLETELY DOMIN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4960" y="2895480"/>
            <a:ext cx="837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 Rr organism would have ____________ flowers i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trait was INCOMPLETELY DOMIN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44197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 Rr organism would have ______________ flowers if this trait was CODOMIN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85080" y="4038480"/>
            <a:ext cx="199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O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ed &amp; wh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160" y="45684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are Mendel’s 2 laws of heredit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1981080"/>
            <a:ext cx="649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aw of Segregation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Law of Independent Assort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74400" y="4800600"/>
            <a:ext cx="592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0320" y="3962520"/>
            <a:ext cx="825660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ffspring of the P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e called the ____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ive an example of a trait th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hows incomplete domin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6240" y="1905120"/>
            <a:ext cx="579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lower color in Four o’cloc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5680" y="5943600"/>
            <a:ext cx="721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rue; Type O is the universal don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5400" y="3200400"/>
            <a:ext cx="8439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UE  or  FALS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person with Type O blood c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e a blood donor for a person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ype AB bloo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n both alleles in the pair are DIFFERENT the organism 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___  or  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920" y="1600200"/>
            <a:ext cx="66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ETEROZYGOUS       HYBR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06400" y="4419720"/>
            <a:ext cx="23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onohyr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3000" y="3733920"/>
            <a:ext cx="7895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cross that involves only 1 tra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 called a ____________  cros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 = T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 = sh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genotype of th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ffspring from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ross at the right is _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ir phenotype is _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02400" y="35812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02760" y="4191120"/>
            <a:ext cx="8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257800" y="533520"/>
            <a:ext cx="308628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ich of the following genotyp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s homozygous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T       Ww      Bb          rr         mm       BB           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53560" y="2689200"/>
            <a:ext cx="609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T                            rr        mm      BB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81240" y="46926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4400" y="3962520"/>
            <a:ext cx="808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 name for homozygous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__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ich of these Punnett squares would 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 to predict the offspring of a DIHYBRID cros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54320" y="5181480"/>
            <a:ext cx="19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is on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95280" y="2971800"/>
            <a:ext cx="1776600" cy="1712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495680" y="2666880"/>
            <a:ext cx="320040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the cross at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ight 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dominant for flower colo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5520" y="1295280"/>
            <a:ext cx="8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9000" y="5257800"/>
            <a:ext cx="66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t                              Mm      R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" y="3962520"/>
            <a:ext cx="8238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ich of the following geno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 from a heterozygous organis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t     SS       bb        Mm      Rr        k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724280" y="380880"/>
            <a:ext cx="4010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3160" y="4572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gene is a segment of 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at codes for a tra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2560" y="380880"/>
            <a:ext cx="117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869080" y="4952880"/>
            <a:ext cx="16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eio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4960" y="2895480"/>
            <a:ext cx="842868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Law of Segregation and th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aw of Independent Assortment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e the result of the movement 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romosomes during 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tosis            mei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o is the “Father of Genetics”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5160" y="1676520"/>
            <a:ext cx="352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Gregor Men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1160" y="3200400"/>
            <a:ext cx="7305480" cy="35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en 2 alleles DON’T BLE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ut BOTH SHOW TOGE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ike in A B blood type, it is call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dominance              incomplete domi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502920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domin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160" y="4572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marL="126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Punnett square below show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26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___________ cro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26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26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mozygous        monohybrid       dihybrid        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26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26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26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9000" y="914400"/>
            <a:ext cx="188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ihybri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90920" y="2895480"/>
            <a:ext cx="32256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rossing a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d haired hors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ith a white haire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rse produces a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oan colored hors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Both alleles for hair color show together). This kind of inheritance is called 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9520" y="4952880"/>
            <a:ext cx="30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-domin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876920" y="380880"/>
            <a:ext cx="373356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type of genotype is used to make a test cros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74120" y="1905120"/>
            <a:ext cx="45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omozygous recess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2320" y="5334120"/>
            <a:ext cx="645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T            bt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bT            B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581280"/>
            <a:ext cx="8915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type of gametes can this organism produ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       ______       _______    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3160" y="4572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guinea pigs, black fur (B) 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minant over brown fur (b)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a black Guinea pig is crossed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brownGuinea pig and the lit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tains a brown baby, the genoty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f the black parent is probab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        b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6280" y="5715000"/>
            <a:ext cx="63439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b;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ust have one B to be black 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  must have one b to pass on to ba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ich of these Punnett squares would 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 to predict the offspring of a MONOHYBRID cros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20760" y="4800600"/>
            <a:ext cx="199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is on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95280" y="2971800"/>
            <a:ext cx="1776600" cy="1712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495680" y="2666880"/>
            <a:ext cx="320040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rossing individuals from the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generation produces t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____ gener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1360" y="1752480"/>
            <a:ext cx="592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8520" y="38098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3733920"/>
            <a:ext cx="89154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gene is a segment of ______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NA     PROTEIN      RNA     CARBOHYD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304560"/>
            <a:ext cx="8153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 = Blue legs               l = yellow le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88200" y="144792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l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13716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11520" y="2666880"/>
            <a:ext cx="139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gr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5238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 Rr organism would have ____________ legs if this trait was COMPLETELY DOMIN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0200" y="2819520"/>
            <a:ext cx="783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 Rr organism would have ____________ legs i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trait was INCOMPLETELY DOMIN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44197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 Rr organism would have ______________ legs if this trait was CODOMIN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84000" y="4038480"/>
            <a:ext cx="231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O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Blue &amp; yel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456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rossing individuals from the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neration produces t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____ gener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78560" y="1752480"/>
            <a:ext cx="592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2895480"/>
            <a:ext cx="6477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person with this type of blood could DONATE to Type __________blood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2209680" cy="20084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266720" y="4191120"/>
            <a:ext cx="217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A or 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a monohybrid cross of tw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TEROZYGOUS parents (Pp), you would expect the offspring to b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 pp:3 PP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 Pp:1 p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2160" y="5084640"/>
            <a:ext cx="383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1 PP:2 Pp:1 pp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38098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 PP:2 Pp:1 pp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ll P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581280" y="304920"/>
            <a:ext cx="5105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raw a picture of 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lood cell from a person with Type AB bloo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2666880" cy="2221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3276360" cy="2745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96880" y="3578400"/>
            <a:ext cx="8338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person could give blood to 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dividual with type ________ blo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blood type is called the univers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___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12240" y="4191120"/>
            <a:ext cx="88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6240" y="5867280"/>
            <a:ext cx="299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ECIPI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4876920"/>
            <a:ext cx="914400" cy="1218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ansmission of characteristics from parents to offspring is called ____________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 is the study of how characteristics are passed on from one generation to the nex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54640" y="1905120"/>
            <a:ext cx="180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ered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7800" y="3076560"/>
            <a:ext cx="20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Gene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581280" y="304920"/>
            <a:ext cx="5105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raw a picture of 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lood cell from a person with Type O bloo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8160" y="5181480"/>
            <a:ext cx="8338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blood type is called the univers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___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8880" y="5791320"/>
            <a:ext cx="20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ON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0400" y="3124080"/>
            <a:ext cx="556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No change.  There are NO A, B, or O proteins on the surface of a type O c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325764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581280" y="304920"/>
            <a:ext cx="5105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raw a picture of 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lood cell from a person with Type A bloo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6000" y="3809880"/>
            <a:ext cx="853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person could give blood  to a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dividual with type __________ bl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4360" y="4419720"/>
            <a:ext cx="198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 or A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2286000" cy="18399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254340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581280" y="304920"/>
            <a:ext cx="5105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raw a picture of 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lood cell from a person with Type B bloo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6000" y="3809880"/>
            <a:ext cx="853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person could give blood  to a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dividual with type __________ bl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3640" y="4419720"/>
            <a:ext cx="195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B or A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2286000" cy="18399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246672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me another blood type you learned about besides the A,B,O syst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11120" y="1981080"/>
            <a:ext cx="527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h (positive and negativ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6760" y="5715000"/>
            <a:ext cx="279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lycoprote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2160" y="3581280"/>
            <a:ext cx="895896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ll the molecule found on the surf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f cells which helps cells recognize “self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provides blood typ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114800" y="533520"/>
            <a:ext cx="464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parents in this cross are 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mozygous           Heterozyg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030280" y="1066680"/>
            <a:ext cx="22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eterozyg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398772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G is dominant for green pods and g is recessive for yellow pods, what percentage of the offspring will have green pods?   _______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08040" y="5527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4280" y="48006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066680" y="1295280"/>
          <a:ext cx="2361960" cy="1955520"/>
        </p:xfrm>
        <a:graphic>
          <a:graphicData uri="http://schemas.openxmlformats.org/drawingml/2006/table">
            <a:tbl>
              <a:tblPr/>
              <a:tblGrid>
                <a:gridCol w="1181160"/>
                <a:gridCol w="1180800"/>
              </a:tblGrid>
              <a:tr h="99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G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g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g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g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1219320" y="3049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 g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9680" y="1219320"/>
            <a:ext cx="69588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685800" y="380880"/>
          <a:ext cx="3124080" cy="3276720"/>
        </p:xfrm>
        <a:graphic>
          <a:graphicData uri="http://schemas.openxmlformats.org/drawingml/2006/table">
            <a:tbl>
              <a:tblPr/>
              <a:tblGrid>
                <a:gridCol w="1041480"/>
                <a:gridCol w="1041480"/>
                <a:gridCol w="1041120"/>
              </a:tblGrid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4114800" y="533520"/>
            <a:ext cx="46483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genotype of the offspring in the blue box is 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06960" y="15238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39877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offspring in the blue box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mozygous               heterozyg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08040" y="5527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94920" y="5378400"/>
            <a:ext cx="25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omozygo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762120" y="2209680"/>
          <a:ext cx="1066680" cy="1219320"/>
        </p:xfrm>
        <a:graphic>
          <a:graphicData uri="http://schemas.openxmlformats.org/drawingml/2006/table">
            <a:tbl>
              <a:tblPr/>
              <a:tblGrid>
                <a:gridCol w="304560"/>
                <a:gridCol w="406440"/>
                <a:gridCol w="35568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>
            <a:off x="380880" y="22860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guinea pigs black fur (B) is dominant over brown fur (b). The Punnett square for  a cross between a HETEROZYGOUS black guinea pig and a PURE brown guinea pig would look lik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08040" y="5527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15520" y="3733920"/>
            <a:ext cx="204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his is t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Correct set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Heterozygous = B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ure brown = b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590920" y="2133720"/>
          <a:ext cx="1066680" cy="1207800"/>
        </p:xfrm>
        <a:graphic>
          <a:graphicData uri="http://schemas.openxmlformats.org/drawingml/2006/table">
            <a:tbl>
              <a:tblPr/>
              <a:tblGrid>
                <a:gridCol w="304920"/>
                <a:gridCol w="406440"/>
                <a:gridCol w="355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4495680" y="2209680"/>
          <a:ext cx="1066680" cy="1208160"/>
        </p:xfrm>
        <a:graphic>
          <a:graphicData uri="http://schemas.openxmlformats.org/drawingml/2006/table">
            <a:tbl>
              <a:tblPr/>
              <a:tblGrid>
                <a:gridCol w="380880"/>
                <a:gridCol w="330480"/>
                <a:gridCol w="355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6477120" y="2133720"/>
          <a:ext cx="1066320" cy="1218600"/>
        </p:xfrm>
        <a:graphic>
          <a:graphicData uri="http://schemas.openxmlformats.org/drawingml/2006/table">
            <a:tbl>
              <a:tblPr/>
              <a:tblGrid>
                <a:gridCol w="355320"/>
                <a:gridCol w="355320"/>
                <a:gridCol w="355680"/>
              </a:tblGrid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685800" y="5359320"/>
            <a:ext cx="71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other name for pure is 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30280" y="5334120"/>
            <a:ext cx="20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omozyg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380880" y="304920"/>
          <a:ext cx="3505320" cy="3014640"/>
        </p:xfrm>
        <a:graphic>
          <a:graphicData uri="http://schemas.openxmlformats.org/drawingml/2006/table">
            <a:tbl>
              <a:tblPr/>
              <a:tblGrid>
                <a:gridCol w="1168560"/>
                <a:gridCol w="1168200"/>
                <a:gridCol w="116856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1523880" y="350532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                                      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 &amp; B are codominant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08040" y="5527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533520"/>
            <a:ext cx="400068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alleles for blood type show 2 kinds of inheritanc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following statements are TRUE or FAL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57400" y="3581280"/>
            <a:ext cx="5943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is dominant over 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 is dominant over 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is dominant over 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 and A are co-domin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is incompletely dominant over 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 is recessive to A and to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3880" y="396252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                                      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O is recessive to both A &amp; B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5680" y="4343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5680" y="4800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3880" y="52578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25680" y="56386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75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75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153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 organism has the genotype  X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are the possible sperm it can produce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4572000"/>
            <a:ext cx="716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2819520"/>
            <a:ext cx="7940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INK ABOUT 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females have an XX genotype and can only give X genes, which parent is the one that determines whether the baby is a boy or gir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77960" y="1752480"/>
            <a:ext cx="306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X                 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50320" y="4800600"/>
            <a:ext cx="45986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ather 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e mother always gives a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f the father gives a y, it’s a bo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f the father gives an X; it’s a gir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you cross a homozygous RED flowered four o’clock plant with a homozygous WHITE flowered plant, ALL of the offspring produced  have PINK flow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type of inheritance in which the heterozygote (Rr) shows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lend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traits is called 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 Dominant/recessive inher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 Co-domi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 Incomplete domi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86880" y="5019840"/>
            <a:ext cx="36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complete domi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marL="157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_______ = An alle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t IS MASKED BY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esence of another alle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32400" y="53352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ECESS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9040" y="3635280"/>
            <a:ext cx="750348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appearance of an organism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s 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44197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henoty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560" y="5105520"/>
            <a:ext cx="4647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possible phenotypes of their offspr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%  and col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52880" y="228600"/>
            <a:ext cx="3657600" cy="42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 throats (R) are dominant over white (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ats in Goonie bi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a cross between a PURE RECESSIVE and a HETEROZYGOUS Goonie bi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37000" y="5029200"/>
            <a:ext cx="314028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50% red throats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50% white thro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19320" y="762120"/>
            <a:ext cx="2666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r              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r                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371600" y="838080"/>
          <a:ext cx="2362320" cy="2057040"/>
        </p:xfrm>
        <a:graphic>
          <a:graphicData uri="http://schemas.openxmlformats.org/drawingml/2006/table">
            <a:tbl>
              <a:tblPr/>
              <a:tblGrid>
                <a:gridCol w="1181160"/>
                <a:gridCol w="1181160"/>
              </a:tblGrid>
              <a:tr h="105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"/>
          <p:cNvSpPr/>
          <p:nvPr/>
        </p:nvSpPr>
        <p:spPr>
          <a:xfrm>
            <a:off x="914400" y="228600"/>
            <a:ext cx="4572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R           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533160" y="4876920"/>
            <a:ext cx="4647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possible phenotypes of their offspr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%  and col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05520" y="380880"/>
            <a:ext cx="3657600" cy="35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ack eyes (B) are dominant over red eyes (b) in ra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a cross between two HETEROZYGOUS ra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7720" y="5029200"/>
            <a:ext cx="320580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75 % black eyes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5% red e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79520" y="677880"/>
            <a:ext cx="439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7680" y="574560"/>
            <a:ext cx="428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5560" y="0"/>
            <a:ext cx="27990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           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219320" y="914400"/>
          <a:ext cx="2438280" cy="195588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</a:tblGrid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371600" y="1219320"/>
            <a:ext cx="2590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BB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    B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Bb            b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114800" y="533520"/>
            <a:ext cx="464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parents in this cross are 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mozygous           Heterozyg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6600" y="9907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omozyg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73392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W is dominant for long wings and w is recessive for short wings, what percentage of these offspring will have short wings?   _______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08040" y="5527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88440" y="5429160"/>
            <a:ext cx="551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0%     only ww   makes it sh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33520" y="338040"/>
            <a:ext cx="35049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533160" y="761760"/>
            <a:ext cx="74674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o is the “Father of Genetics”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59000" y="179712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Gregor Men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2819520"/>
            <a:ext cx="83818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ich of the following genotypes could be from a HETEROZYGOUS organis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T      Rr       Ww         bb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XX       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5334120"/>
            <a:ext cx="686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809880" y="228600"/>
            <a:ext cx="5105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kind of cross is th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re dominant X pure reces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terozygous X heterozyg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terozygous X homozyg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ybrid recessive X hybrid p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8000" y="2971800"/>
            <a:ext cx="46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eterozygous X Homozyg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4920" y="42670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other name for heterozygous is 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08040" y="5527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49240" y="4114800"/>
            <a:ext cx="13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yb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335268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228600" y="4724280"/>
            <a:ext cx="4648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probability the offspring will have straight tai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105520" y="380880"/>
            <a:ext cx="3657600" cy="42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Reebops curly tails (T) are dominant over straight tails (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a cross between a HOMOZYGOUS DOMINANT and a HOMOZYGOUS RECESSIVE Reeb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52880" y="5029200"/>
            <a:ext cx="41911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%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ll will be Curly tailed (T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682280" y="1447920"/>
            <a:ext cx="2137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t              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t               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38080" y="838080"/>
            <a:ext cx="4496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T             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523880" y="1371600"/>
          <a:ext cx="2514600" cy="2209680"/>
        </p:xfrm>
        <a:graphic>
          <a:graphicData uri="http://schemas.openxmlformats.org/drawingml/2006/table">
            <a:tbl>
              <a:tblPr/>
              <a:tblGrid>
                <a:gridCol w="1219320"/>
                <a:gridCol w="1295280"/>
              </a:tblGrid>
              <a:tr h="111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534600" y="2133720"/>
            <a:ext cx="645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BT          bt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bT            B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457200"/>
            <a:ext cx="8915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type of gametes can this organism produ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       ______       _______    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3581280"/>
            <a:ext cx="9220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type of gametes can this organism produ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B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       ______       _______    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53341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BT          BT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BT          B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5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1676520" y="1066680"/>
          <a:ext cx="5638680" cy="4191120"/>
        </p:xfrm>
        <a:graphic>
          <a:graphicData uri="http://schemas.openxmlformats.org/drawingml/2006/table">
            <a:tbl>
              <a:tblPr/>
              <a:tblGrid>
                <a:gridCol w="1127160"/>
                <a:gridCol w="1128600"/>
                <a:gridCol w="1127160"/>
                <a:gridCol w="1128600"/>
                <a:gridCol w="1127160"/>
              </a:tblGrid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"/>
          <p:cNvSpPr/>
          <p:nvPr/>
        </p:nvSpPr>
        <p:spPr>
          <a:xfrm>
            <a:off x="772560" y="5486400"/>
            <a:ext cx="793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ll = T       short = t          R= round      r=wrink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eds              s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14040" y="282600"/>
            <a:ext cx="24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tRr X TtR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72520" y="1981080"/>
            <a:ext cx="4106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TRR      TTRr     TtRR     Tt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TRr        TTrr       TtRr      Tt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tRR        TtRr       ttRR      tt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tRr         Ttrr         ttRr       tt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an example of a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DIHYBRI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ro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ich pattern of phenotypes will be seen in the offspr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11680" y="16002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9:3:3: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3520" y="243828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many offspring will 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ort AND Round?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ort  AND wrinkle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  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562720" y="30481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259600" y="297180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3/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145160" y="3505320"/>
            <a:ext cx="38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ecessive and domin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20760" y="4724280"/>
            <a:ext cx="371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ecessive and reces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28720" y="4952880"/>
            <a:ext cx="300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HINT: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9- dominant for both</a:t>
            </a:r>
            <a:br>
              <a:rPr sz="2000"/>
            </a:b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3- recessive and domin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3- dominant and reces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1- recessive and reces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640840" y="396252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1/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533160" y="761760"/>
            <a:ext cx="74674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do we call the offspring of the F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generat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367640" y="1797120"/>
            <a:ext cx="592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3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2819520"/>
            <a:ext cx="83818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ich of the following genotypes could be from a HOMOZYGOUS RECESSIVE organis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T       b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r       Ww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t        XX    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9480" y="563868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b                                      tt                  aa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560" y="380520"/>
            <a:ext cx="8839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other name for heterozygo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5360" y="1447920"/>
            <a:ext cx="164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hybr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7160" y="3581280"/>
            <a:ext cx="5734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diagram at the rig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called a _____________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41911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unnett squ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248520" y="3352680"/>
            <a:ext cx="25146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"/>
          <p:cNvGraphicFramePr/>
          <p:nvPr/>
        </p:nvGraphicFramePr>
        <p:xfrm>
          <a:off x="685800" y="380880"/>
          <a:ext cx="3124080" cy="3276720"/>
        </p:xfrm>
        <a:graphic>
          <a:graphicData uri="http://schemas.openxmlformats.org/drawingml/2006/table">
            <a:tbl>
              <a:tblPr/>
              <a:tblGrid>
                <a:gridCol w="1041480"/>
                <a:gridCol w="1041480"/>
                <a:gridCol w="1041120"/>
              </a:tblGrid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3" name=""/>
          <p:cNvSpPr/>
          <p:nvPr/>
        </p:nvSpPr>
        <p:spPr>
          <a:xfrm>
            <a:off x="4114800" y="533520"/>
            <a:ext cx="46483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genotype of the offspring in the blue box is 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mozygous     heterozyg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256360" y="3200400"/>
            <a:ext cx="246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eterozyg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39877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many of the offspring from this cross will show the dominant characteristi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08040" y="5527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94200" y="5378400"/>
            <a:ext cx="47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¾  (75%) – AA  and A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685800" y="380880"/>
          <a:ext cx="3124080" cy="3276720"/>
        </p:xfrm>
        <a:graphic>
          <a:graphicData uri="http://schemas.openxmlformats.org/drawingml/2006/table">
            <a:tbl>
              <a:tblPr/>
              <a:tblGrid>
                <a:gridCol w="1041480"/>
                <a:gridCol w="1041480"/>
                <a:gridCol w="1041120"/>
              </a:tblGrid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G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g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g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9" name=""/>
          <p:cNvSpPr/>
          <p:nvPr/>
        </p:nvSpPr>
        <p:spPr>
          <a:xfrm>
            <a:off x="3962520" y="533520"/>
            <a:ext cx="4800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 is dominant for green p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 is recessive for yellow p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genotype of the offspring in the shaded box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11520" y="327672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3987720"/>
            <a:ext cx="58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phenotype of the offspring in the shaded box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508040" y="5527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05160" y="4648320"/>
            <a:ext cx="218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reen p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marL="47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Which of the following is NOT TR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otype determines ph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Alleles are different forms of the same ge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otype is the way the ge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make you loo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Organisms with different genotype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        can have the same phenoty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8600" y="18288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30400" y="2666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7080" y="39625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9600" y="5029200"/>
            <a:ext cx="475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Tt   and TT both look t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533160" y="761760"/>
            <a:ext cx="74674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are the 3 different kinds of inheritance you learned abou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355760" y="1797120"/>
            <a:ext cx="611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ominant/reces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complete domi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-domi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8600" y="3657600"/>
            <a:ext cx="8381880" cy="23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ffspring of the P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eneration are call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50400" y="4419720"/>
            <a:ext cx="1363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380880" y="4648320"/>
            <a:ext cx="4648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are the probable blood types of the offspr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105520" y="380880"/>
            <a:ext cx="3657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are the possible offspring of a cross between a blood type AB mom and a type O 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62720" y="4876920"/>
            <a:ext cx="251460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50%  Type 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50%  Type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77960" y="1676520"/>
            <a:ext cx="218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o        B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o       B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838080"/>
            <a:ext cx="3733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A          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523880" y="1397160"/>
          <a:ext cx="2514600" cy="2260440"/>
        </p:xfrm>
        <a:graphic>
          <a:graphicData uri="http://schemas.openxmlformats.org/drawingml/2006/table">
            <a:tbl>
              <a:tblPr/>
              <a:tblGrid>
                <a:gridCol w="1257120"/>
                <a:gridCol w="1257480"/>
              </a:tblGrid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533160" y="38088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marL="102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ich of the following crosses would you expect to see a 9:3:3:1 ratio in the offspr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SYY X ssy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sYy   X  SsY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sYY  X   SSy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2680" y="5257800"/>
            <a:ext cx="77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sYy X SsY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9:3:3:1 ratio is seen in dihybrid cro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228600" y="4876920"/>
            <a:ext cx="4952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will the offspring be li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%  and col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05520" y="380880"/>
            <a:ext cx="3657600" cy="34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le (P)is the dominant color for monsters. Yellow is recessive (p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a cross between a HOMOZYGOUS purple and a yellow mon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34840" y="5486400"/>
            <a:ext cx="2009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00% pur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7010280" y="3429000"/>
            <a:ext cx="1752840" cy="13320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296360" y="1295280"/>
            <a:ext cx="2518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Pp         P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Pp         Pp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8280" y="457200"/>
            <a:ext cx="3356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             </a:t>
            </a: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P            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143000" y="1066680"/>
          <a:ext cx="2743200" cy="23367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</a:tblGrid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761760" y="533160"/>
            <a:ext cx="7543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genotype would a PURPLE dad have to be to make a yellow monster baby with a Purple (Pp) mom mons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1295280" y="2057400"/>
          <a:ext cx="2667240" cy="1979640"/>
        </p:xfrm>
        <a:graphic>
          <a:graphicData uri="http://schemas.openxmlformats.org/drawingml/2006/table">
            <a:tbl>
              <a:tblPr/>
              <a:tblGrid>
                <a:gridCol w="889200"/>
                <a:gridCol w="888840"/>
                <a:gridCol w="88920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4876920" y="1919160"/>
            <a:ext cx="1714320" cy="14241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935760" y="25146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28800" y="4267080"/>
            <a:ext cx="5715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ad needs to have: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a little p to give one to the ba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a big P to be purple him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457200" y="3809880"/>
            <a:ext cx="4952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267080" y="380880"/>
            <a:ext cx="4496040" cy="26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ma and Fred are going to have a bab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d in AA and Wilma is o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e possible blood types of their bab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3040" y="3886200"/>
            <a:ext cx="4358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00% will have A type b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96360" y="1295280"/>
            <a:ext cx="25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Ao         A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Ao         Ao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6880" y="457200"/>
            <a:ext cx="316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             </a:t>
            </a: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A        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295280" y="1143000"/>
          <a:ext cx="2743200" cy="23367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</a:tblGrid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457200" y="3809880"/>
            <a:ext cx="4952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67080" y="380880"/>
            <a:ext cx="4496040" cy="26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ma and Fred are going to have a bab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d in AA and Wilma is o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e possible blood types of their bab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353040" y="3886200"/>
            <a:ext cx="4358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00% will have A type b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96360" y="1295280"/>
            <a:ext cx="25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Ao         A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Ao         Ao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6880" y="457200"/>
            <a:ext cx="3166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                 </a:t>
            </a: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A        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imes New Roman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295280" y="1143000"/>
          <a:ext cx="2743200" cy="23367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</a:tblGrid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__________________ = An allele that MASKS the presence of another alle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d and white flowers produc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ink offspring is an example o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_______________________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dominance                     incomplete dominance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1400" y="331920"/>
            <a:ext cx="36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DOMINA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4640" y="4343400"/>
            <a:ext cx="608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Incomplete dominan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534960" y="213372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T          rt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 rT            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457200"/>
            <a:ext cx="8915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type of gametes can this organism produ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r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       ______       _______    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" y="3581280"/>
            <a:ext cx="9220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type of gametes can this organism produ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wG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       ______       _______    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" y="533412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WG       wg 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wG        W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69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a DIHYBRID HETEROZYGOUS cross the offspring that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/16 are _______________ for both tra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/16 are _____________ for one trait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_____________ for the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/16 are _____________ for both tra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7080" y="2895480"/>
            <a:ext cx="213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omin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22860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LL IN THE BLANKS WITH THE WOR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minant   OR  Reces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057400" y="3962520"/>
            <a:ext cx="24382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Domin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cessive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196000" y="5530680"/>
            <a:ext cx="20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Recess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228240" y="1294920"/>
            <a:ext cx="9296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this cross:       TtRr   X   Tt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probability the offspring will b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ll AND white?  ____/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rt AND red?  ____/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ll AND red?    ___/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rt AND white?  ___/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583080" y="3048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66680" y="2286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 = Ta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 = 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 = shor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 = wh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352680" y="4038480"/>
            <a:ext cx="6098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354480" y="4952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19160" y="5810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228240" y="1294920"/>
            <a:ext cx="9296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this cross:       TtYy   X   TtY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probability the offspring will b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rt AND green?  ____/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rt AND yellow?  ____/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ll AND green?    ___/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ll AND yellow?  ___/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659400" y="3124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38080" y="2286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 = Ta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yellow p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 = shor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green p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4038480"/>
            <a:ext cx="6098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583080" y="49528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430080" y="5943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-152640" y="1219320"/>
            <a:ext cx="92962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this cross:      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YYRR   X   yyR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Be care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probability the offspring will b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ellow peas AND white flowers?  ____/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een peas AND red flowers?  ____/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ellow peas AND red flowers?    ___/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een peas AND white flowers?  ___/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564160" y="29718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7200" y="22860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yellow pea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 = red flow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green pea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 = white flow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05520" y="3886200"/>
            <a:ext cx="6094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183280" y="49528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11160" y="5943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recessive gene is represented by a _________________ let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20960" y="1143000"/>
            <a:ext cx="24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lower c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4840" y="2743200"/>
            <a:ext cx="7461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phenotypic ratio would you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pect to see in offspring from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nohybrid cross of 2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terozygous parent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531972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3:1    Dominant:recess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33160" y="1523520"/>
            <a:ext cx="5257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_______________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re different gen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oices for a trai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720" y="1523880"/>
            <a:ext cx="276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ALLE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867280" y="380880"/>
            <a:ext cx="25592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610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dominant gene is represented by a ____________ letter.</a:t>
            </a:r>
            <a:br>
              <a:rPr sz="44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usually the first letter of the trai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960" y="914400"/>
            <a:ext cx="179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api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80" y="3124080"/>
            <a:ext cx="9055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en a heterozygous individual sho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blending of 2 alleles instead of on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eing dominant over the other it is call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___________  ________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6720" y="4952880"/>
            <a:ext cx="495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ncomplete    domin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3T19:30:30Z</dcterms:created>
  <dc:creator>kriedell</dc:creator>
  <dc:description/>
  <dc:language>en-US</dc:language>
  <cp:lastModifiedBy>NHS NPS</cp:lastModifiedBy>
  <dcterms:modified xsi:type="dcterms:W3CDTF">2012-03-06T12:42:42Z</dcterms:modified>
  <cp:revision>48</cp:revision>
  <dc:subject/>
  <dc:title>asdfs</dc:title>
</cp:coreProperties>
</file>